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909095-CA51-4A0F-B31F-68918E924C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86E8A-97DF-4DB1-B693-F8C87CEE2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EDC872-23CC-4F92-84F8-504052A490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F88036-3E9D-4E0E-8984-7E881DC32D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8D3A3-BE4C-4CCE-AE95-5BFEE02E1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1D920-336C-4B9D-814D-992026DE19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5D778-A41D-402C-A26B-EEEC69AA7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6590F-85AF-43D0-AB93-4CBC728E9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7AC27-6349-4027-845C-1F433917C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AFB7D-DF14-47C5-B8E9-EDD683C7C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BC0AA-BCA1-4C12-948A-C93437C15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40A21-AAFA-4D81-9062-E81BA162AC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7E825-6ADD-4558-8511-7C05254FD997}" type="slidenum">
              <a:rPr b="0" lang="hu-H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Arial"/>
              </a:rPr>
              <a:t>Költséggazdálkodás és gazdaságosság</a:t>
            </a:r>
            <a:r>
              <a:rPr b="0" lang="hu-HU"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u-HU"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a:rPr>
              <a:t>A költségek vizsgálata a termelési volumen függvényében </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A termelési volumen változásának függvényében a költségek lehetne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 állandó é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 változó költségek.</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Azokat a költségeket, amelyek összegükben a termelés méreteitől (volumenétől) bizonyos határok között függetlenek </a:t>
            </a:r>
            <a:r>
              <a:rPr b="1" lang="hu-HU" sz="2800" spc="-1" strike="noStrike">
                <a:solidFill>
                  <a:srgbClr val="000000"/>
                </a:solidFill>
                <a:latin typeface="Arial"/>
              </a:rPr>
              <a:t>viszonylag állandó</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  </a:t>
            </a:r>
            <a:r>
              <a:rPr b="0" lang="hu-HU" sz="2800" spc="-1" strike="noStrike">
                <a:solidFill>
                  <a:srgbClr val="000000"/>
                </a:solidFill>
                <a:latin typeface="Arial"/>
              </a:rPr>
              <a:t>azokat, amelyek összegükben a volumen változásával változnak,  </a:t>
            </a:r>
            <a:r>
              <a:rPr b="1" lang="hu-HU" sz="2800" spc="-1" strike="noStrike">
                <a:solidFill>
                  <a:srgbClr val="000000"/>
                </a:solidFill>
                <a:latin typeface="Arial"/>
              </a:rPr>
              <a:t>változó </a:t>
            </a:r>
            <a:r>
              <a:rPr b="0" lang="hu-HU" sz="2800" spc="-1" strike="noStrike">
                <a:solidFill>
                  <a:srgbClr val="000000"/>
                </a:solidFill>
                <a:latin typeface="Arial"/>
              </a:rPr>
              <a:t>költségeknek nevezzü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u-HU"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 </a:t>
            </a:r>
            <a:r>
              <a:rPr b="1" lang="hu-HU" sz="1800" spc="-1" strike="noStrike">
                <a:solidFill>
                  <a:srgbClr val="000000"/>
                </a:solidFill>
                <a:latin typeface="Arial"/>
              </a:rPr>
              <a:t>változás tulajdonsága </a:t>
            </a:r>
            <a:r>
              <a:rPr b="0" lang="hu-HU" sz="1800" spc="-1" strike="noStrike">
                <a:solidFill>
                  <a:srgbClr val="000000"/>
                </a:solidFill>
                <a:latin typeface="Arial"/>
              </a:rPr>
              <a:t>szerin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a:t>
            </a:r>
            <a:r>
              <a:rPr b="0" lang="hu-HU" sz="1800" spc="-1" strike="noStrike">
                <a:solidFill>
                  <a:srgbClr val="000000"/>
                </a:solidFill>
                <a:latin typeface="Arial"/>
              </a:rPr>
              <a:t>- proporcionálisán változó (lineári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a:t>
            </a:r>
            <a:r>
              <a:rPr b="0" lang="hu-HU" sz="1800" spc="-1" strike="noStrike">
                <a:solidFill>
                  <a:srgbClr val="000000"/>
                </a:solidFill>
                <a:latin typeface="Arial"/>
              </a:rPr>
              <a:t>- progresszíven változó é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a:t>
            </a:r>
            <a:r>
              <a:rPr b="0" lang="hu-HU" sz="1800" spc="-1" strike="noStrike">
                <a:solidFill>
                  <a:srgbClr val="000000"/>
                </a:solidFill>
                <a:latin typeface="Arial"/>
              </a:rPr>
              <a:t>- degresszíven változó költségek.</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A proporcionális költség </a:t>
            </a:r>
            <a:r>
              <a:rPr b="0" lang="hu-HU" sz="1800" spc="-1" strike="noStrike">
                <a:solidFill>
                  <a:srgbClr val="000000"/>
                </a:solidFill>
                <a:latin typeface="Arial"/>
              </a:rPr>
              <a:t>a termelés változásával egyenes arányban változik, többszöröződik. Ezért az ábrán az origóból kiinduló ferde egyenes szemlélteti.</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A progresszíven változó költség </a:t>
            </a:r>
            <a:r>
              <a:rPr b="0" lang="hu-HU" sz="1800" spc="-1" strike="noStrike">
                <a:solidFill>
                  <a:srgbClr val="000000"/>
                </a:solidFill>
                <a:latin typeface="Arial"/>
              </a:rPr>
              <a:t>esetén a költség növekedése a termelés mennyiségi növekedésének mértékét meghaladja. Pl. valamilyen ok miatt az átlagosnál nagyobb termelésre van szükség, és az erre való ösztönzés átlagosnál nagyobb bérköltség (túlóradíj, prémium) kifizetését indokolj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a:t>
            </a:r>
            <a:r>
              <a:rPr b="0" lang="hu-HU" sz="1800" spc="-1" strike="noStrike">
                <a:solidFill>
                  <a:srgbClr val="000000"/>
                </a:solidFill>
                <a:latin typeface="Arial"/>
              </a:rPr>
              <a:t>A progresszíven változó költség alakulását ábrázoló függvénygörbe a proporcionális költség alakulását </a:t>
            </a:r>
            <a:r>
              <a:rPr b="0" i="1" lang="hu-HU" sz="1800" spc="-1" strike="noStrike">
                <a:solidFill>
                  <a:srgbClr val="000000"/>
                </a:solidFill>
                <a:latin typeface="Arial"/>
              </a:rPr>
              <a:t>ábrázoló </a:t>
            </a:r>
            <a:r>
              <a:rPr b="0" lang="hu-HU" sz="1800" spc="-1" strike="noStrike">
                <a:solidFill>
                  <a:srgbClr val="000000"/>
                </a:solidFill>
                <a:latin typeface="Arial"/>
              </a:rPr>
              <a:t>egyenes feletti mező­ben helyezkedik 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	</a:t>
            </a:r>
            <a:r>
              <a:rPr b="1" lang="hu-HU" sz="1800" spc="-1" strike="noStrike">
                <a:solidFill>
                  <a:srgbClr val="000000"/>
                </a:solidFill>
                <a:latin typeface="Arial"/>
              </a:rPr>
              <a:t>Degresszíven változó költség </a:t>
            </a:r>
            <a:r>
              <a:rPr b="0" lang="hu-HU" sz="1800" spc="-1" strike="noStrike">
                <a:solidFill>
                  <a:srgbClr val="000000"/>
                </a:solidFill>
                <a:latin typeface="Arial"/>
              </a:rPr>
              <a:t>felmerülésekor a termelésnövekedés mértéke nagyobb, mint a költségnövekedésé. Főleg az általános költségek állandó költségeken felül fennmaradó része teszi ki. Pl. a gépek üzemeltetésének, az anyagmozgatásnak, a karbantartásnak a költsége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a:rPr>
              <a:t>Kalkuláció</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 termékegységre eső költségek meghatározását kalkulációnak, illetve önköltségszámításnak nevezzük.  Meghatározzuk , hogy a termelés valamely egységéhez vagy meghatározott mennyiségéhez mennyi anyagot, alkatrészt használtunk fel. mennyi munkabért fizettünk ki. Számításba vesszük a termékegység előállításával kapcsolatos közvetett költségek bizonyos részét i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 termékegységre jutó különféle ráfordítások összegyűjtése lehetőséget ad az önköltséget befolyásoló tényezők megfigyelésére, elemzésére, és a költségfelhasználás tudatos befolyásolására.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 kalkulációt az ipari termékek és szolgáltatások árának kialakításánál is felhasználják.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u-HU"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Önköltségszámítás végezhető</a:t>
            </a:r>
            <a:r>
              <a:rPr b="1" lang="hu-HU" sz="3200" spc="-1" strike="noStrike">
                <a:solidFill>
                  <a:srgbClr val="000000"/>
                </a:solidFill>
                <a:latin typeface="Arial"/>
              </a:rPr>
              <a:t> </a:t>
            </a:r>
            <a:r>
              <a:rPr b="0" lang="hu-HU" sz="3200" spc="-1" strike="noStrike">
                <a:solidFill>
                  <a:srgbClr val="000000"/>
                </a:solidFill>
                <a:latin typeface="Arial"/>
              </a:rPr>
              <a:t>a gyártási folyamat előtt, alatt és után. Eszerint v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 elő-,</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 közbenső é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 utókalkuláció.</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Fontos a módszerbeli azonossá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Arial"/>
              </a:rPr>
              <a:t>Előkalkuláció</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Rendeltetés szerin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 ajánlati,</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 árvetési,</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 terv, é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 műszaki előkalkuláció.</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Az előkalkuláció adatforrását illetőe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 műszaki dokumentáció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 becslésen é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 összehasonlításon alapuló</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Ajánlati: Általában export, egyedi vagy új gyártmányok eseté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Árvetési : új gyártmányok eseté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Terv : az éves tervezés időszakában kiemelt termékekről, összehasonlító jellegge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Műszaki : ha az egyes gyártmányok konstrukciója és technológiája már kialakult. Ez a legpontosabb előkalkulációs változat, mert műszaki dokumentáció alapján készül. A közvetlen anyag és munkabér szükségletet műszakilag megalapozott adatok alapján veszik figyelembe. A közvetett költségek jelentős részét is rezsi normák alapján építik be a műszaki előkalkulációb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Arial"/>
              </a:rPr>
              <a:t>Közbenső kalkuláció</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A gyártással egy időben készül.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Alkalmazása hosszú átfutású, nagy volument képviselő, bonyolult termékek esetében célszerű.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Kizárólag operatív célokat szolgál.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Ezért formája és módszere - szemben az elő- és utókalkulációval -kötetlen.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Leggyakrabban csak egy-egy kalkulációs tétel (pl. közvetlenül elszámolható anyagköltség) természetes mértékegységben, vagy értékben való kimutatására szorítkozik.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u-HU"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Célját </a:t>
            </a:r>
            <a:r>
              <a:rPr b="0" i="1" lang="hu-HU" sz="2000" spc="-1" strike="noStrike">
                <a:solidFill>
                  <a:srgbClr val="000000"/>
                </a:solidFill>
                <a:latin typeface="Arial"/>
              </a:rPr>
              <a:t>és </a:t>
            </a:r>
            <a:r>
              <a:rPr b="0" lang="hu-HU" sz="2000" spc="-1" strike="noStrike">
                <a:solidFill>
                  <a:srgbClr val="000000"/>
                </a:solidFill>
                <a:latin typeface="Arial"/>
              </a:rPr>
              <a:t>hasznosságát illetően figyelembe veendő:</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egyes gyártmányok átfutási ideje l - 2 év is lehe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 gépipari gyártmányok közvetlenül elszámolt anyagköltsége az összes költségek 50 - 60%-át teszi k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 közvetlen anyagköltségek túlnyomó hányada a gyártási folyam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legelső szakaszaiban már felmerü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Közbenső kalkuláció nélkül lemondanánk az anyagköltségekkel kapcsolatos sokoldalú elemzés időben történő megvalósításáról, a kellő időben feltárható pozitív jelenségek továbbfejlesztéséről, a negatívumok megszüntetésére irányuló intézkedések meghozatalának lehetőségéről i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Célszerű úgy elkészíteni, hogy adatai - többletmunka nélkül - beállíthatók legyenek a termék utókalkulációjába is. Ehhez a feldolgozás módszereinek az utókalkulációs módszerekkel való azonosítása szükség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Arial"/>
              </a:rPr>
              <a:t>Utókalkuláció</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 tényleges ráfordításoknak megfelelően a műszaki előkészítő szervek által kibocsátott alapbizonylatok és könyvviteli adatok felhasználásával a könyveléssel legszorosabb összefüggésben készítik el, a gyártási folyamat befejeztéve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z utókalkulációnak a tényleges önköltség kimunkálásával párhuzamosan általában ki kell mutatnia - anyagféleségenként - a termék előállításához, illetve a szolgáltatás teljesítéséhez felhasznált, közvetlenül elszámolt anyagok mennyiségét, továbbá a közvetlenül elszámolt munkaórák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z utókalkuláció tevékenységével részben számviteli feladatot old meg, részben pedig a költségelemzés adatigényeit elégíti ki. Ennek érdekében a termékek önköltségét tartalmazó részadatokat úgy csoportosítja, hogy azok alapján a termelést irányító szervek a megfelelő műszaki intézkedésekhez szükséges elemzéseket elvégezhessék. A termelés tényleges önköltségére vonatkozó utókalkulációs adatok képet adnak a vállalat befejezett és befejezetlen termelésének önköltség alakulásáról i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z utókalkuláció adatai alapul szolgálhatnak az ipari termékek és szolgáltatások árának végleges megállapítására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Arial"/>
              </a:rPr>
              <a:t>A kalkulációs egység</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A kalkulációs egység az a meghatározott termékmennyiség, szolgáltatás, vagy gyártási fázis, amelyre a kalkulált önköltség vonatkozik.</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A kalkulációs egységek kialakíthatók:</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 technológiai fázisonké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 alkatrészenké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 szerelési alcsoportonké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 szerelési főcsoportonkén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 gyártmányonként, é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 gyártmánycsoportonké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a:rPr>
              <a:t>A kalkuláció felépítése, kalkulációs módszerek </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 </a:t>
            </a:r>
            <a:r>
              <a:rPr b="0" lang="hu-HU" sz="1600" spc="-1" strike="noStrike">
                <a:solidFill>
                  <a:srgbClr val="000000"/>
                </a:solidFill>
                <a:latin typeface="Arial"/>
              </a:rPr>
              <a:t>A </a:t>
            </a:r>
            <a:r>
              <a:rPr b="1" lang="hu-HU" sz="1600" spc="-1" strike="noStrike">
                <a:solidFill>
                  <a:srgbClr val="000000"/>
                </a:solidFill>
                <a:latin typeface="Arial"/>
              </a:rPr>
              <a:t>hagyományos kalkulációs séma szerkezet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1.       Közvetlen anyagköltsé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2.       Közvetlen bérköltsé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3        Közvetlen bérek járulékai</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4        Gyártási különköltsé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5.       Egyéb közvetlen költsé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6.       Közvetlen önköltség (l +2+3+4)</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7.       Üzemi általános költség</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8.       Szűkített önköltség (üzemi önköltség) (5+6+7)</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9.       Az irányítás költségei (gyári és vállalati általános költségek)</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l o.  Elkülönített költségek</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	</a:t>
            </a:r>
            <a:r>
              <a:rPr b="0" lang="hu-HU" sz="1600" spc="-1" strike="noStrike">
                <a:solidFill>
                  <a:srgbClr val="000000"/>
                </a:solidFill>
                <a:latin typeface="Arial"/>
              </a:rPr>
              <a:t>a.) A műszaki fejlesztés költségfedezet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	</a:t>
            </a:r>
            <a:r>
              <a:rPr b="0" lang="hu-HU" sz="1600" spc="-1" strike="noStrike">
                <a:solidFill>
                  <a:srgbClr val="000000"/>
                </a:solidFill>
                <a:latin typeface="Arial"/>
              </a:rPr>
              <a:t>b.) A garanciális javítás költségfedezet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	</a:t>
            </a:r>
            <a:r>
              <a:rPr b="0" lang="hu-HU" sz="1600" spc="-1" strike="noStrike">
                <a:solidFill>
                  <a:srgbClr val="000000"/>
                </a:solidFill>
                <a:latin typeface="Arial"/>
              </a:rPr>
              <a:t>c.) Egyéb elkülönített költségek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11.  Teljes önköltség (vállalati önköltség) (8+9+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u-HU"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A termelési folyamatban felhasznált élő- és holtmunka ráfordítás értékben kifejezett összegét költségnek nevezzük.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A termék, vagy szolgáltatás meghatározott mennyiségére, illetve egységére vonatkozó költség az önköltsé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u-HU"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Ez a kalkulációs rendszer a vállalat valamennyi költségét figyelembe veszi a termék önköltségének megállapításához, így </a:t>
            </a:r>
            <a:r>
              <a:rPr b="1" lang="hu-HU" sz="2800" spc="-1" strike="noStrike">
                <a:solidFill>
                  <a:srgbClr val="000000"/>
                </a:solidFill>
                <a:latin typeface="Arial"/>
              </a:rPr>
              <a:t>teljes költség számításnak </a:t>
            </a:r>
            <a:r>
              <a:rPr b="0" lang="hu-HU" sz="2800" spc="-1" strike="noStrike">
                <a:solidFill>
                  <a:srgbClr val="000000"/>
                </a:solidFill>
                <a:latin typeface="Arial"/>
              </a:rPr>
              <a:t>is szokás nevezn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A teljes költség számítással ellentétben létezik </a:t>
            </a:r>
            <a:r>
              <a:rPr b="1" lang="hu-HU" sz="2800" spc="-1" strike="noStrike">
                <a:solidFill>
                  <a:srgbClr val="000000"/>
                </a:solidFill>
                <a:latin typeface="Arial"/>
              </a:rPr>
              <a:t>részköltség számítás </a:t>
            </a:r>
            <a:r>
              <a:rPr b="0" lang="hu-HU" sz="2800" spc="-1" strike="noStrike">
                <a:solidFill>
                  <a:srgbClr val="000000"/>
                </a:solidFill>
                <a:latin typeface="Arial"/>
              </a:rPr>
              <a:t>is, amely elsősorban a termék közvetlen önköltségét, vagy pedig a szűkített önköltséget határozza meg a költségtervezés és számítás sorá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u-HU"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Gazdasági kalkuláció készítéséhez általában az un. </a:t>
            </a:r>
            <a:r>
              <a:rPr b="1" lang="hu-HU" sz="2800" spc="-1" strike="noStrike">
                <a:solidFill>
                  <a:srgbClr val="000000"/>
                </a:solidFill>
                <a:latin typeface="Arial"/>
              </a:rPr>
              <a:t>fedezeti elven alapuló részköltség számítást </a:t>
            </a:r>
            <a:r>
              <a:rPr b="0" lang="hu-HU" sz="2800" spc="-1" strike="noStrike">
                <a:solidFill>
                  <a:srgbClr val="000000"/>
                </a:solidFill>
                <a:latin typeface="Arial"/>
              </a:rPr>
              <a:t>alkalmazzák.</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Alapja, hogy az egyes költségek a kapacitás kihasználásával összefüggésben különbözőképpen viselkednek.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Ebből a szempontból a vállalat költségeinek változását vizsgálják a termelési volumen (kapacitás kihasználás) függvényéb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u-HU"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A vállalati költségek egy részét - az állandó költségeket - a termelés mennyiségének és összetételének változása nem befolyásolja, ezek akkor is felmerülnek, ha a termelés mennyisége - a kapacitás kihasználása - igen alacsony, vagy null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A változó költségek viszont a termelés mennyiségével és szerkezetével összhangban változnak (anyagköltség, a termelésben dolgozó munkások bérei, stb.)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u-HU"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 termelési szerkezet és volumen megállapításakor el lehet tekinteni az állandó költségektől és abból kell kiindulni, hogy a változó költségek a termelés változását követik.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Ha a gazdaságilag determinált ár a változó költségeknél magasabb, akkor valamilyen mértékben fedezet képződik az állandó költségekr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Minél nagyobb a változó költségek és az árak különbsége - vagyis a fedezet - annál inkább keletkezik forrás az állandó költségek fedezetén felül a nyereségre. Az ilyen módon való tervezés a nyereségfedezeti számítás, a gazdasági kalkuláció alapj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u-HU"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A </a:t>
            </a:r>
            <a:r>
              <a:rPr b="1" lang="hu-HU" sz="2800" spc="-1" strike="noStrike">
                <a:solidFill>
                  <a:srgbClr val="000000"/>
                </a:solidFill>
                <a:latin typeface="Arial"/>
              </a:rPr>
              <a:t>nyereségfedezeti számításhoz javasolt kalkulációs séma:</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1. Közvetlen anyagköltsé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2. Közvetlen bérköltsé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3. Közvetlen bérek járuléka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4. Gyártási különköltsé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5. Közvetlen és egyben változó költség (1+2+3+4)</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6. Fedezet (7-5)</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7. Eladási á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u-HU"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A kalkulációnak tartalmaznia kell:</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a termék pontos megnevezése (cikkszám, szabványszám, rajz szám),</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a kalkulációs egység megjelölése (sorozat, fázis stb.),</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a gyártott mennyisé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a kalkuláció készítésének időpontj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a termék eladási ár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a fogyasztási adó fizetési kötelezettség, illetve az árkiegészítés mérték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a ténylegesen felmerült költségek kimutatása az előírt séma szerint, a műszaki fejlesztési és a garanciális javítási költséghányad százalék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z utókalkuláció legfontosabb bizonylata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a:t>
            </a:r>
            <a:r>
              <a:rPr b="0" lang="hu-HU" sz="1800" spc="-1" strike="noStrike">
                <a:solidFill>
                  <a:srgbClr val="000000"/>
                </a:solidFill>
                <a:latin typeface="Arial"/>
              </a:rPr>
              <a:t>- a közvetlen költségek felmerülését igazoló bizonylatok,</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a:t>
            </a:r>
            <a:r>
              <a:rPr b="0" lang="hu-HU" sz="1800" spc="-1" strike="noStrike">
                <a:solidFill>
                  <a:srgbClr val="000000"/>
                </a:solidFill>
                <a:latin typeface="Arial"/>
              </a:rPr>
              <a:t>- a felosztott közvetett költségek felosztásával kapcsolatos számítások,</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a:t>
            </a:r>
            <a:r>
              <a:rPr b="0" lang="hu-HU" sz="1800" spc="-1" strike="noStrike">
                <a:solidFill>
                  <a:srgbClr val="000000"/>
                </a:solidFill>
                <a:latin typeface="Arial"/>
              </a:rPr>
              <a:t>- a termelés mennyiségére vonatkozó adatok.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Arial"/>
              </a:rPr>
              <a:t>Hagyományos kalkuláció</a:t>
            </a:r>
            <a:r>
              <a:rPr b="0" lang="hu-HU" sz="4400" spc="-1" strike="noStrike">
                <a:solidFill>
                  <a:srgbClr val="000000"/>
                </a:solidFill>
                <a:latin typeface="Arial"/>
              </a:rPr>
              <a:t> </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Készítésekor a közvetett költségek kalkulációs egységekre történő szétosztása, ráterhelése többféle kalkulációs módszerrel lehetséges. A módszerbeli különbségeket a gyártási eljárások változatos sokasága, a termeléstervezés adottságai határozzák meg. A vállalati karakterisztikák közös jellemzői alapján általában a kalkulációs módszer a leglényegesebb termelési tényező (pl. közvetlen anyag, vagy bér) felhasználásának valamilyen összefüggése (aránya) szerint osztja szét a közvetett költségeket a termékekre.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 </a:t>
            </a:r>
            <a:r>
              <a:rPr b="1" lang="hu-HU" sz="1800" spc="-1" strike="noStrike">
                <a:solidFill>
                  <a:srgbClr val="000000"/>
                </a:solidFill>
                <a:latin typeface="Arial"/>
              </a:rPr>
              <a:t>módszereket </a:t>
            </a:r>
            <a:r>
              <a:rPr b="0" lang="hu-HU" sz="1800" spc="-1" strike="noStrike">
                <a:solidFill>
                  <a:srgbClr val="000000"/>
                </a:solidFill>
                <a:latin typeface="Arial"/>
              </a:rPr>
              <a:t>tekintve létezik:</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egyszerű osztó (homogén profilr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egyenértékszámos osztó (választék szerinti profilr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 pótlékoló kalkuláció (vegyes profilr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 közvetett költségek ilyen „önkényes" felosztása a kalkulációs egységekre - különösen az elő- és közbenső kalkuláció készítésének fázisában - a gazdaságosság megítélése tekintetében torzításokhoz vezethet. Ezért célszerűbb a fedezeti költségszámítá-son alapuló gazdasági kalkuláció alkalmazása, amely az egyes termékeket a vállalat egészének gazdaságos működésével összhangban értékel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400" spc="-1" strike="noStrike">
                <a:solidFill>
                  <a:srgbClr val="000000"/>
                </a:solidFill>
                <a:latin typeface="Arial"/>
              </a:rPr>
              <a:t>Fedezeti költségszámítás </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 vállalati termelő folyamat összes költségének változását a termelési teljesítmény (volumen) függvényében a - az elemi költségfüggvényekből levezethető - vállalati költségfüggvény írja le.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peremfeltételek</a:t>
            </a:r>
            <a:r>
              <a:rPr b="0" lang="hu-HU"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 a gyár egyfajta (összegezhető) terméket állít elő.</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 a kapacitáshatárok adottak,</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 az értelmezési tartomány felső határa a technikailag elérhető maximális teljesíté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 a változó költségek eredője az adott értelmezési tartományban lineáris jellegű.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u-HU"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Arial"/>
              </a:rPr>
              <a:t>A költségfüggvény </a:t>
            </a:r>
            <a:r>
              <a:rPr b="0" lang="hu-HU" sz="2400" spc="-1" strike="noStrike">
                <a:solidFill>
                  <a:srgbClr val="000000"/>
                </a:solidFill>
                <a:latin typeface="Arial"/>
              </a:rPr>
              <a:t>megmutatja, hogy a különböző lehetséges termelési teljesítményt (mennyiséget) mekkora összköltséggel lehet előállítani.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lakja egy lineáris függvény, amelynek induló értéke az állandó költségek összege nulla teljesítménynél, és meredeksége a változó költségek eredőjét kifejező egységnyi közvetlen (változó) költség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Gyakorlati szempontból a lineáris összköltség és árbevétel függvények együttes vizsgálata jelentős, amely a fedezeti számítás alapja.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z árbevétel függvény alakja szintén egyenes, amely az origóból indul ki és meredeksége a termék egységár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000000"/>
                </a:solidFill>
                <a:latin typeface="Arial"/>
              </a:rPr>
              <a:t>A fedezeti elv</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bból indul ki, hogy a fix költségek pontosan nem oszthatók fel a termékek között, ezek a tisztánlátás érdekében a gazdasági döntéseket előkészítő információkat sem torzíthatják.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Ennek érdekében a fix költségeket a nyereséggel együtt kell kezelni, mivel ezek a kategóriák az egyes termékek árában sem választhatók szé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z egyes termékek értékesítéséből befolyó árbevételnek a termékre fordított közvetlen költségek kiadása (levonása) után fennmaradó része bekerül a vállalati „közös kasszába", amelyből fedezik az általános, fix jellegű költségeket és kiadásokat - ami ezután marad, az a nyereség.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u-HU"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A </a:t>
            </a:r>
            <a:r>
              <a:rPr b="1" lang="hu-HU" sz="3200" spc="-1" strike="noStrike">
                <a:solidFill>
                  <a:srgbClr val="000000"/>
                </a:solidFill>
                <a:latin typeface="Arial"/>
              </a:rPr>
              <a:t>termelési költségek osztályozása </a:t>
            </a:r>
            <a:r>
              <a:rPr b="0" lang="hu-HU" sz="3200" spc="-1" strike="noStrike">
                <a:solidFill>
                  <a:srgbClr val="000000"/>
                </a:solidFill>
                <a:latin typeface="Arial"/>
              </a:rPr>
              <a:t>történh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 </a:t>
            </a:r>
            <a:r>
              <a:rPr b="0" lang="hu-HU" sz="3200" spc="-1" strike="noStrike">
                <a:solidFill>
                  <a:srgbClr val="000000"/>
                </a:solidFill>
                <a:latin typeface="Arial"/>
              </a:rPr>
              <a:t>- költség nemek (jelle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 a termék előállítással való kapcsolat (elszámolás) é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 a termelési volumenhez való viszony szeri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u-HU"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A nyereség és a fix költség összegének együttes elnevezésére többféle kifejezés használato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 fedezeti összeg,</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 hozzájárulá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 bruttó nyereség.</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Az </a:t>
            </a:r>
            <a:r>
              <a:rPr b="1" lang="hu-HU" sz="2800" spc="-1" strike="noStrike">
                <a:solidFill>
                  <a:srgbClr val="000000"/>
                </a:solidFill>
                <a:latin typeface="Arial"/>
              </a:rPr>
              <a:t>Á-K-F-N- </a:t>
            </a:r>
            <a:r>
              <a:rPr b="0" lang="hu-HU" sz="2800" spc="-1" strike="noStrike">
                <a:solidFill>
                  <a:srgbClr val="000000"/>
                </a:solidFill>
                <a:latin typeface="Arial"/>
              </a:rPr>
              <a:t>(Ár - Költség -Fedezet - Nyereség) </a:t>
            </a:r>
            <a:r>
              <a:rPr b="1" lang="hu-HU" sz="2800" spc="-1" strike="noStrike">
                <a:solidFill>
                  <a:srgbClr val="000000"/>
                </a:solidFill>
                <a:latin typeface="Arial"/>
              </a:rPr>
              <a:t>séma </a:t>
            </a:r>
            <a:r>
              <a:rPr b="0" lang="hu-HU" sz="2800" spc="-1" strike="noStrike">
                <a:solidFill>
                  <a:srgbClr val="000000"/>
                </a:solidFill>
                <a:latin typeface="Arial"/>
              </a:rPr>
              <a:t>a következő:</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Árbevétel - változó költség=</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	</a:t>
            </a:r>
            <a:r>
              <a:rPr b="0" lang="hu-HU" sz="2800" spc="-1" strike="noStrike">
                <a:solidFill>
                  <a:srgbClr val="000000"/>
                </a:solidFill>
                <a:latin typeface="Arial"/>
              </a:rPr>
              <a:t>Fedezett összeg - Fix költség=</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	</a:t>
            </a:r>
            <a:r>
              <a:rPr b="0" lang="hu-HU" sz="2800" spc="-1" strike="noStrike">
                <a:solidFill>
                  <a:srgbClr val="000000"/>
                </a:solidFill>
                <a:latin typeface="Arial"/>
              </a:rPr>
              <a:t>Nyeresé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u-HU"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A fedezetszámítás </a:t>
            </a:r>
            <a:r>
              <a:rPr b="1" lang="hu-HU" sz="2000" spc="-1" strike="noStrike">
                <a:solidFill>
                  <a:srgbClr val="000000"/>
                </a:solidFill>
                <a:latin typeface="Arial"/>
              </a:rPr>
              <a:t>alapkategóriáinak </a:t>
            </a:r>
            <a:r>
              <a:rPr b="0" lang="hu-HU" sz="2000" spc="-1" strike="noStrike">
                <a:solidFill>
                  <a:srgbClr val="000000"/>
                </a:solidFill>
                <a:latin typeface="Arial"/>
              </a:rPr>
              <a:t>értelmezés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Fedezeti össze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Nyereség + Fix költség = Árbevétel - Összes változó költsé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Fedezeti (F) po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z árbevétel függvény és összköltség függvény metszéspontja, vagyis az a pont, ahol a vállalatnak sem nyeresége, sem vesztesége nem keletkezik.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a:t>
            </a:r>
            <a:r>
              <a:rPr b="1" lang="hu-HU" sz="2000" spc="-1" strike="noStrike">
                <a:solidFill>
                  <a:srgbClr val="000000"/>
                </a:solidFill>
                <a:latin typeface="Arial"/>
              </a:rPr>
              <a:t>termékegység fedezete: </a:t>
            </a:r>
            <a:r>
              <a:rPr b="0" lang="hu-HU" sz="2000" spc="-1" strike="noStrike">
                <a:solidFill>
                  <a:srgbClr val="000000"/>
                </a:solidFill>
                <a:latin typeface="Arial"/>
              </a:rPr>
              <a:t>Egységár - Termékegységre jutó változó költség.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Arial"/>
              </a:rPr>
              <a:t>Kritikus termékmennyiség (Qkri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fedezeti ponthoz tartozó termékmennyiség, vagyis az a volumen, amelynek termékenkénti fedezetei éppen biztosítják a fix költségek megtérülését. A kritikus pont feletti termékek fajlagos fedezeti ősz-szegei adják a vállalati nyereséget. A kritikus pont alatti termelés mellett veszteséges a gazdálkodá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u-HU" sz="44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A lineáris költségfüggvény megszerkesztéséhez minden költségcsoportot meg kell vizsgálni a termelés mennyiségi változásával való összefüggés szempontjából.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Ennek eredményétől függően be kell sorolni a fix, vagy a (proporcionálisan) változó költségek csoportjába.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A közvetlen költségeket a fedezetszámítási gyakorlatban proporcionálisán változó költségként szokás értelmezni.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Az általános költségek a számításokban fix költségként szerepelne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a:rPr>
              <a:t>A fedezeti számítás gyakorlati alkalmazása</a:t>
            </a:r>
            <a:endParaRPr b="0" lang="en-US" sz="40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A fedezeti elv és a gazdasági kalkuláció összekapcsolása a vállalati összköltség és árbevétel függvények elemzése révén hasznos segítséget nyújt a termelési folyamat megtervezésében és irányításába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A gyakorlatban lehetséges </a:t>
            </a:r>
            <a:r>
              <a:rPr b="1" lang="hu-HU" sz="2800" spc="-1" strike="noStrike">
                <a:solidFill>
                  <a:srgbClr val="000000"/>
                </a:solidFill>
                <a:latin typeface="Arial"/>
              </a:rPr>
              <a:t>alkalmazások </a:t>
            </a:r>
            <a:r>
              <a:rPr b="0" lang="hu-HU" sz="2800" spc="-1" strike="noStrike">
                <a:solidFill>
                  <a:srgbClr val="000000"/>
                </a:solidFill>
                <a:latin typeface="Arial"/>
              </a:rPr>
              <a:t>a következő területekre irányulnak.</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 termelés tervezé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 gyártmányfejleszté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Arial"/>
              </a:rPr>
              <a:t>- piaci árversen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u-HU"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Költségek</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Daru bérleti díja a 234.sz. munkához</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Irodaépület fűtési költség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Üzemvezető bér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Gépekhez használt kenőanya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Kézi reszelő</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211.sz. munkához speciális fogó</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Targoncások tb járulék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 székeket gyártó munkások bér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Kohászok munkaruháj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Értékesítési személyzet gépkocsijának amortizációj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Az üzemvezető titkárnőjének számítógépéhez tintapatr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Őrző-védő szolgálat számlázott munkadíj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Igénybe vett marketing tanácsadás díja</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Munkavédelmi oktatók bér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Arial"/>
              </a:rPr>
              <a:t>Tervezőmérnökök íróasztalának beszerzési á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u-HU"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Arial"/>
              </a:rPr>
              <a:t>A költség nemek </a:t>
            </a:r>
            <a:r>
              <a:rPr b="0" lang="hu-HU" sz="3200" spc="-1" strike="noStrike">
                <a:solidFill>
                  <a:srgbClr val="000000"/>
                </a:solidFill>
                <a:latin typeface="Arial"/>
              </a:rPr>
              <a:t>a költségek jelleg szerinti csoportosításával a következő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 anyagköltsé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 bérköltsé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 társadalombiztosítási járulé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 értékcsökkenési leírás é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 egyéb költsé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u-HU"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z anyagköltségek :a felhasznált alap-, segéd-, üzem- </a:t>
            </a:r>
            <a:r>
              <a:rPr b="0" i="1" lang="hu-HU" sz="2000" spc="-1" strike="noStrike">
                <a:solidFill>
                  <a:srgbClr val="000000"/>
                </a:solidFill>
                <a:latin typeface="Arial"/>
              </a:rPr>
              <a:t>és </a:t>
            </a:r>
            <a:r>
              <a:rPr b="0" lang="hu-HU" sz="2000" spc="-1" strike="noStrike">
                <a:solidFill>
                  <a:srgbClr val="000000"/>
                </a:solidFill>
                <a:latin typeface="Arial"/>
              </a:rPr>
              <a:t>fűtő­anyagok, vásárolt energia, a vásárolt alkatrészek.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bérköltség az élőmunka ellenértékeként a dolgozók részére kifizetett pénzösszeg és a természetbeni járandóságok együttes értéke.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 folyósított bérek után társadalombiztosítási járulékot kell fizetni.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Értékcsökkenési leírás a tárgyi eszközök elhasználódásának, értékcsökkenésének költségként való elszámolása.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Egyéb költségek közé az előbb felsorolt kategóriákba nem sorolható költségek tartoznak. Ilyene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nyagjellegű egyéb költsége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bérjellegű egyéb költsége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nem anyagjellegű szolgáltatáso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bankköltsége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különféle egyéb költsége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000" spc="-1" strike="noStrike">
                <a:solidFill>
                  <a:srgbClr val="000000"/>
                </a:solidFill>
                <a:latin typeface="Arial"/>
              </a:rPr>
              <a:t>A termelési költségek elszámolása </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 költségek a termék előállítással való kapcsolatuk alapjá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 közvetlenül elszámolható (közvetlen) é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 közvetve elszámolható (közvetett) költségek lehetnek.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 </a:t>
            </a:r>
            <a:r>
              <a:rPr b="1" lang="hu-HU" sz="2400" spc="-1" strike="noStrike">
                <a:solidFill>
                  <a:srgbClr val="000000"/>
                </a:solidFill>
                <a:latin typeface="Arial"/>
              </a:rPr>
              <a:t>közvetlen költségek </a:t>
            </a:r>
            <a:r>
              <a:rPr b="0" lang="hu-HU" sz="2400" spc="-1" strike="noStrike">
                <a:solidFill>
                  <a:srgbClr val="000000"/>
                </a:solidFill>
                <a:latin typeface="Arial"/>
              </a:rPr>
              <a:t>csoportjába azok a költségek sorolhatók, amelyekről egyértelműen megállapítható, hogy melyik termék előállításával kapcsolatosan merültek fel, azaz melyik terméket terhelik.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Közvetlen költségként számolják el a termékhez közvetlenül felhasznált anyagok költségeit, a termék előállításával kapcsolatban közvetlenül felmerült munkabért, a speciális szerszámok, gyártóeszközök költségei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u-HU"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a:t>
            </a:r>
            <a:r>
              <a:rPr b="1" lang="hu-HU" sz="1400" spc="-1" strike="noStrike">
                <a:solidFill>
                  <a:srgbClr val="000000"/>
                </a:solidFill>
                <a:latin typeface="Arial"/>
              </a:rPr>
              <a:t>közvetett költségek : </a:t>
            </a:r>
            <a:r>
              <a:rPr b="0" lang="hu-HU" sz="1400" spc="-1" strike="noStrike">
                <a:solidFill>
                  <a:srgbClr val="000000"/>
                </a:solidFill>
                <a:latin typeface="Arial"/>
              </a:rPr>
              <a:t>felmerülésük időpontjában nem, vagy csak igen körülményesen lehet megállapítani, hogy mely termékeket és milyen arányban terhelne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öbbféle terméket előállító vállalatoknál: a műszaki és adminisztratív alkalmazottak, az üzemi segédszemélyzet (anyagmozgatók, takarítók, adminisztrátorok) fenntartásának költségei.  Az anyagköltségek azon része, amelyekről nem állapítható meg az előállított gyártmányokkal való kapcsolat. Értékcsökkenési leírás, az általános gyártóeszközök és fogyóeszközök költségei. az eszközfenntartással, továbbá a pénz­forgalommal kapcsolatos egyéb költsége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 </a:t>
            </a:r>
            <a:r>
              <a:rPr b="0" lang="hu-HU" sz="1400" spc="-1" strike="noStrike">
                <a:solidFill>
                  <a:srgbClr val="000000"/>
                </a:solidFill>
                <a:latin typeface="Arial"/>
              </a:rPr>
              <a:t>Egyféle terméket előállító vállalatnál általában minden költség közvetlenül elszámolható a termékre. Az egyes termékek előállításával kapcsolatos közvetlen költségek értékének megállapítása nem okoz különösebb nehézségeket, mert az előállított termék érdekében felhasznált anyag és bérköltség a műszaki előkészítés információi alapján megállapítható. Ez a megállapítás a különleges szerszámok költségeire, az un. gyártási különköltségre is érvény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közvetett költségek elszámolásánál az előállított termékek és az elszámolásra kerülő költségek között közvetlen okozati összefüggés nem állapítható meg. A közvetett költségeket ezért először a felmerülés helyén (eszmeileg és területileg körülhatárolt helyen), a költséghelyen összegyűjtik, majd valamilyen módszer szerint fel­osztják a termékek közöt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közvetett költségeket általános költségeknek is szokás nevezni, és felmerülési helyük szerint elnevezni (üzemi, gyári, vállalati általános költsé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u-HU"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z </a:t>
            </a:r>
            <a:r>
              <a:rPr b="1" lang="hu-HU" sz="2000" spc="-1" strike="noStrike">
                <a:solidFill>
                  <a:srgbClr val="000000"/>
                </a:solidFill>
                <a:latin typeface="Arial"/>
              </a:rPr>
              <a:t>üzemi általános költségek </a:t>
            </a:r>
            <a:r>
              <a:rPr b="0" lang="hu-HU" sz="2000" spc="-1" strike="noStrike">
                <a:solidFill>
                  <a:srgbClr val="000000"/>
                </a:solidFill>
                <a:latin typeface="Arial"/>
              </a:rPr>
              <a:t>a termelő üzemek irányításával, fenntartásával, üzemeltetésével kapcsolatosak. Ezek olyan költségelemekből tevődnek össze, amelyekről minden kétséget kizáróan megállapítható az üzemmel való kapcsolat, de a költség termékek közötti megoszlása közvetlenül nem határozható meg.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segéd- fűtő- és üzemanyago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felhasznált energi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általános (nem speciális) szerszámok,</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munka- és védőruhák, valami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termékekre közvetlenül el nem számolható bérek és közterhe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	</a:t>
            </a:r>
            <a:r>
              <a:rPr b="0" lang="hu-HU" sz="2000" spc="-1" strike="noStrike">
                <a:solidFill>
                  <a:srgbClr val="000000"/>
                </a:solidFill>
                <a:latin typeface="Arial"/>
              </a:rPr>
              <a:t>költségei.</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Ezen kívül a gépek elhasználódásával kapcsolatos ráfordítások, továbbá az üzem érdekeltségével kapcsolatos egyéb költsége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hu-HU"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 </a:t>
            </a:r>
            <a:r>
              <a:rPr b="1" lang="hu-HU" sz="2400" spc="-1" strike="noStrike">
                <a:solidFill>
                  <a:srgbClr val="000000"/>
                </a:solidFill>
                <a:latin typeface="Arial"/>
              </a:rPr>
              <a:t>gyáregységi általános költségek </a:t>
            </a:r>
            <a:r>
              <a:rPr b="0" lang="hu-HU" sz="2400" spc="-1" strike="noStrike">
                <a:solidFill>
                  <a:srgbClr val="000000"/>
                </a:solidFill>
                <a:latin typeface="Arial"/>
              </a:rPr>
              <a:t>az üzemek felett álló gyáregységek egészének működésével, irányításával hozhatók kapcsolatba.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 </a:t>
            </a:r>
            <a:r>
              <a:rPr b="1" lang="hu-HU" sz="2400" spc="-1" strike="noStrike">
                <a:solidFill>
                  <a:srgbClr val="000000"/>
                </a:solidFill>
                <a:latin typeface="Arial"/>
              </a:rPr>
              <a:t>vállalati általános költségek </a:t>
            </a:r>
            <a:r>
              <a:rPr b="0" lang="hu-HU" sz="2400" spc="-1" strike="noStrike">
                <a:solidFill>
                  <a:srgbClr val="000000"/>
                </a:solidFill>
                <a:latin typeface="Arial"/>
              </a:rPr>
              <a:t>a vállalat egészének irányítása, igazgatása során felmerült költségek összesség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 vállalat irányításának bérköltsége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 </a:t>
            </a:r>
            <a:r>
              <a:rPr b="0" lang="hu-HU" sz="2400" spc="-1" strike="noStrike">
                <a:solidFill>
                  <a:srgbClr val="000000"/>
                </a:solidFill>
                <a:latin typeface="Arial"/>
              </a:rPr>
              <a:t>a központi épületek, járművek amortizációs, eszközfenntartási és egyéb költsége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Arial"/>
              </a:rPr>
              <a:t>az ügyvitel lebonyolításával, a munkavédelemmel, oktatással, anyaggazdálkodással, piackutatással kapcsolatos költsége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7T17:14:23Z</dcterms:created>
  <dc:creator>Laci</dc:creator>
  <dc:description/>
  <dc:language>en-US</dc:language>
  <cp:lastModifiedBy>Mini</cp:lastModifiedBy>
  <dcterms:modified xsi:type="dcterms:W3CDTF">2009-04-21T18:51:15Z</dcterms:modified>
  <cp:revision>6</cp:revision>
  <dc:subject/>
  <dc:title>1. dia</dc:title>
</cp:coreProperties>
</file>